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4EF-496B-4A9A-962B-9488C7A9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35C-2F8D-4350-AEDD-BFC8BBF1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65D-5E33-4A8B-8201-E42C10B5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504-7953-4036-BF95-206D9296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4C5-CCCD-4238-B84E-080B1183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AFC-799A-4A4A-B1FF-3BFD595B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1DB-0C14-454F-94A2-9F83253E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1F9-51CA-426A-BF63-6D4BAFEC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B44-1A98-4B59-A2E9-9F92928F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19A-6C76-4B7E-8CA0-B6662C1E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ECE-4E37-41BA-B2BF-36D0E5C6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46F-8D40-440A-BBAD-6A5CA81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D1E5-3EE4-4AF6-843C-1706ADC267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250920" y="907920"/>
            <a:ext cx="8713800" cy="496908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8930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«Роль семьи в духовно-нравственном воспитании личности учащегося»</a:t>
            </a: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ахрединова Людмила Федоровна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ОУ «Сош №1 г.Ртищево,Саратовской области»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9280" y="260280"/>
            <a:ext cx="89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ращайте ваше внимание не столько на истребление недостатков и пороков в детях, сколько на наполнение их животворящей любовью: будет любовь — не будет пороков. Истребление плохого без наполнения хорошим — бесплодно: это  производит пустоту, а пустота беспрестанно наполняется пустотою же; выгоните одну, явится друга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. Г. Бе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Как воспитать нравственные потребности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079280"/>
            <a:ext cx="8856720" cy="54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-Родители должны осознавать важность этой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-Развивать сами в себе эти нравственные потребности, так как совершенствование продолжается всю человеческую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- Родители, которые хотели бы воспитать своего ребёнка не стихийно, а сознательно, должны начать анализ воспитания своего ребёнка с анализа самих себя, с анализа особенностей собственной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-Знать, как, какими методами формировать в детях нравственные потреб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5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Факторы воспитательного потенциала семьи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ьная и жилищно-бытовая обеспечен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ультурно-образовательный уровень родител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рально-психологический клим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итет отца и матери у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верие детей к родителя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динство требований в сем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08000" y="53028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Атмосфера искренност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SimSun"/>
              </a:rPr>
              <a:t>По словам И.А. Ильина «Родители… не должны лгать детям ни в каких важных, значительных обстоятельствах жизни. Всякую ложь, всякий обман, всякую симуляцию… ребёнок подмечает с чрезвычайной остротой и быстротой; и, подметив, впадает в смущение, соблазн и подозрительность. Если ребёнку нельзя сообщить чего-нибудь, то всегда лучше честно и прямо отказать в ответе или провести определённую границу в осведомлении, …... И не следует говорить так:  «Это тебе рано знать», или «Это ты всё равно не поймёшь»; такие ответы только раздражают в душе ребёнка любопытство и самолюбие. Лучше отвечать так: «Я не имею право сказать тебе это; это чужая тайна. Этим не нарушается прямота и искренность, и даётся конкретный урок долга, дисциплины и деликатности…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79280" y="562320"/>
            <a:ext cx="8713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  <a:ea typeface="SimSun"/>
              </a:rPr>
              <a:t>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Воздействие слов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В. А. Сухомлинский отмечал, что слово должно применяться именно к конкретному человеку, слово должно быть содержательным, иметь глубинный смысл и эмоциональную окраску. Чтобы слово воспитывало, оно должно оставлять след в мыслях и душе воспитанника, а для этого надо учить вникать в смысл слов. Только тогда мы можем рассчитывать на эмоциональное воздейств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Как же правильно говорить с ребёнк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Во-первых, не надо говорить ребёнку или подростку то, что он очень хорошо знает без нас. Это бессмысленно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Во-вторых, надо задумываться над тоном, манерой нашего разговора, чтобы избежать «отчитываний» и «скучных проповедей». Ни то, ни другое не западает в душу ребёнк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В-третьих, надо продумывать, как связать нашу беседу с жизнью, какого практического результата мы хотим добить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0920" y="260280"/>
            <a:ext cx="8642160" cy="129564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640"/>
              <a:gd name="textAreaBottom" fmla="*/ 1143000 h 1295640"/>
            </a:gdLst>
            <a:ahLst/>
            <a:rect l="textAreaLeft" t="textAreaTop" r="textAreaRight" b="textAreaBottom"/>
            <a:pathLst>
              <a:path w="1440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42" y="21600"/>
                </a:lnTo>
                <a:arcTo wR="3600" hR="3600" stAng="10800000" swAng="5400000"/>
                <a:lnTo>
                  <a:pt x="144042" y="3600"/>
                </a:lnTo>
                <a:arcTo wR="3600" hR="3600" stAng="5400000" swAng="5400000"/>
                <a:close/>
              </a:path>
            </a:pathLst>
          </a:custGeom>
          <a:solidFill>
            <a:srgbClr val="800000">
              <a:alpha val="50000"/>
            </a:srgbClr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сновные правила нравственного воспита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делайте того, чего не желаете себе</a:t>
            </a:r>
            <a:br>
              <a:rPr sz="32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правило создает условия для творения благоразумных, благовоспитанных, добросовестных, добропорядочных, доброжелательных, добросердечных поступ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ите для других добро, если для этого у вас есть возможность. </a:t>
            </a:r>
            <a:br>
              <a:rPr sz="32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правило учит быть человечным, не оставлять другого в беде, а сочувствовать и помогать каждому, кто нуждается в твоей помощи, учит сопереживать, ставить себя на место другого, чужое горе переживать, как свое собственн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те патриотами своей нации и своей страны, защищайте Отечество.</a:t>
            </a:r>
            <a:br>
              <a:rPr sz="32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правило поможет любить свою Родину, свой народ; быть гордым за принадлежность именно к этой стране, независимо от ее экономического, климатического или другого положения; развивать чувство чести и достоин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66560"/>
            <a:ext cx="822960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3964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  <a:ea typeface="SimSun"/>
              </a:rPr>
              <a:t>Будьте счастливы и здоров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3964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33cccc"/>
                </a:solidFill>
                <a:latin typeface="Garamond"/>
                <a:ea typeface="SimSun"/>
              </a:rPr>
              <a:t>Любите своих близких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а для счастья и гармонии – это духовность. Только сила нашей духовности сохранит этот этнос, наш народ, обеспечит здоровое  потомство для будущего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аже высокий уровень жизни в условиях бездуховности не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несет счастья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Академик Н.В.Федоров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02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амое прекрасное зрелище на свете – вид ребенка , уверенно идущего по жизненной дороге после того, как вы показали ему путь.  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 Конфуций..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250920" y="18900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0099cc">
              <a:alpha val="35000"/>
            </a:srgbClr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ктуальность проблем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уховно-нравственного воспитани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логические катастрофы влекут за собой разрушение равновесия в физическом и нравственном здоровье люд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росла детская преступность, процветает наркомания и алкого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едствием этого выступают бездуховность, переоценка ценностей, потеря нравственных ориенти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равственность — это «правила, определяющие поведение, духовные и душевные качества, необходимые человеку в обществе, а также выполнение этих правил, проявляющихся в его поведении, поступках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56944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уховно- нравственное воспитание- это процесс целенаправленного содействия становлению нравственной сферы ребенка, являющейся основой культуры личности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b7e7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общение детей к социальному опыту и культуре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оспитание правильного взаимодейст-вия с природой и социальной средой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Формирование знаний о природе, человеке и обществе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Социальное развитие школьника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Формирование мышления, воображения, речи ребёнка, его эрудиции и общей культуры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оспитание высших духовно-нравст-венных чувств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79280" y="28764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SimSun"/>
              </a:rPr>
              <a:t>Воспитывать в детях надо все элементы их нравственного мира. Всё важно. Гармония нравственного мира человека, гарантия его доброты обеспечиваются только всеми его слагаемыми, но направляющими являются нравственные потребности. Нравственные потребности – самые благородные и человечные – не даются от природы, их необходимо воспитывать, без них невозможна высокая духовность, доб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b7e7ff"/>
                </a:solidFill>
                <a:latin typeface="Arial"/>
              </a:rPr>
              <a:t>Элементы нравственных потребност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Отзывчив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Нравственная установ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вредить никому, а приносить максимум польз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пособность к деятельной доброте  и непримиримость   ко всем проявлениям з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7469280" y="4500720"/>
            <a:ext cx="153036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8:23Z</dcterms:created>
  <dc:creator>flex</dc:creator>
  <dc:description/>
  <dc:language>en-US</dc:language>
  <cp:lastModifiedBy>Luda</cp:lastModifiedBy>
  <dcterms:modified xsi:type="dcterms:W3CDTF">2025-02-18T09:40:17Z</dcterms:modified>
  <cp:revision>65</cp:revision>
  <dc:subject/>
  <dc:title>Документы  для подготовки  к проведению ЕГЭ </dc:title>
</cp:coreProperties>
</file>